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6421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4B6E-457A-4060-A7AC-C9732D67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ACB1-C01F-414D-AFC3-6A19942B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F13-B49C-4866-A323-29D16775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6D4A-545C-4012-A667-D58B52A8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E87-997C-4FFE-B3D8-3DC91D48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883-3B3A-4485-B4B2-9DFFE403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F463-9F23-4670-90D2-37159579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31F7-E04C-4061-89D5-A9EFFBCE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28FA-9356-49F6-A5D7-972ACDF4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2B0-20AE-4FB2-82F5-F38C22E8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FA7-7C36-4853-BD15-CE30DCA5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E14C-A13B-46B6-82EE-58604C6F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0630-1FC5-4DB5-B17B-2363524582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1243-6824-4F66-9513-E247E9686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6" descr="blu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4" descr="buglogowhite.png"/>
          <p:cNvPicPr/>
          <p:nvPr/>
        </p:nvPicPr>
        <p:blipFill>
          <a:blip r:embed="rId3"/>
          <a:stretch/>
        </p:blipFill>
        <p:spPr>
          <a:xfrm>
            <a:off x="6858000" y="5867280"/>
            <a:ext cx="1795320" cy="54936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blu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4" descr="buglogowhite.png"/>
          <p:cNvPicPr/>
          <p:nvPr/>
        </p:nvPicPr>
        <p:blipFill>
          <a:blip r:embed="rId3"/>
          <a:stretch/>
        </p:blipFill>
        <p:spPr>
          <a:xfrm>
            <a:off x="2084400" y="2286000"/>
            <a:ext cx="5230800" cy="1600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arrow.png"/>
          <p:cNvPicPr/>
          <p:nvPr/>
        </p:nvPicPr>
        <p:blipFill>
          <a:blip r:embed="rId4"/>
          <a:stretch/>
        </p:blipFill>
        <p:spPr>
          <a:xfrm>
            <a:off x="-6705720" y="1828800"/>
            <a:ext cx="6934320" cy="564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arrow.png"/>
          <p:cNvPicPr/>
          <p:nvPr/>
        </p:nvPicPr>
        <p:blipFill>
          <a:blip r:embed="rId5"/>
          <a:stretch/>
        </p:blipFill>
        <p:spPr>
          <a:xfrm>
            <a:off x="-6705720" y="3581280"/>
            <a:ext cx="6934320" cy="564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arrow.png"/>
          <p:cNvPicPr/>
          <p:nvPr/>
        </p:nvPicPr>
        <p:blipFill>
          <a:blip r:embed="rId6"/>
          <a:stretch/>
        </p:blipFill>
        <p:spPr>
          <a:xfrm>
            <a:off x="-7315200" y="4648320"/>
            <a:ext cx="6934320" cy="5648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arrow.png"/>
          <p:cNvPicPr/>
          <p:nvPr/>
        </p:nvPicPr>
        <p:blipFill>
          <a:blip r:embed="rId7"/>
          <a:stretch/>
        </p:blipFill>
        <p:spPr>
          <a:xfrm>
            <a:off x="-6553080" y="5410080"/>
            <a:ext cx="6933960" cy="5648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arrow.png"/>
          <p:cNvPicPr/>
          <p:nvPr/>
        </p:nvPicPr>
        <p:blipFill>
          <a:blip r:embed="rId8"/>
          <a:stretch/>
        </p:blipFill>
        <p:spPr>
          <a:xfrm>
            <a:off x="-4800600" y="5867280"/>
            <a:ext cx="6934320" cy="564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arrow.png"/>
          <p:cNvPicPr/>
          <p:nvPr/>
        </p:nvPicPr>
        <p:blipFill>
          <a:blip r:embed="rId9"/>
          <a:stretch/>
        </p:blipFill>
        <p:spPr>
          <a:xfrm>
            <a:off x="-6324480" y="6019920"/>
            <a:ext cx="6933960" cy="5648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arrow.png"/>
          <p:cNvPicPr/>
          <p:nvPr/>
        </p:nvPicPr>
        <p:blipFill>
          <a:blip r:embed="rId10"/>
          <a:stretch/>
        </p:blipFill>
        <p:spPr>
          <a:xfrm>
            <a:off x="-2133720" y="6019920"/>
            <a:ext cx="6934320" cy="5648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coverim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arrow.png"/>
          <p:cNvPicPr/>
          <p:nvPr/>
        </p:nvPicPr>
        <p:blipFill>
          <a:blip r:embed="rId3"/>
          <a:stretch/>
        </p:blipFill>
        <p:spPr>
          <a:xfrm>
            <a:off x="-6477120" y="1209600"/>
            <a:ext cx="6934320" cy="5648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arrow.png"/>
          <p:cNvPicPr/>
          <p:nvPr/>
        </p:nvPicPr>
        <p:blipFill>
          <a:blip r:embed="rId4"/>
          <a:stretch/>
        </p:blipFill>
        <p:spPr>
          <a:xfrm>
            <a:off x="-6477120" y="4343400"/>
            <a:ext cx="6934320" cy="5648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arrow.png"/>
          <p:cNvPicPr/>
          <p:nvPr/>
        </p:nvPicPr>
        <p:blipFill>
          <a:blip r:embed="rId5"/>
          <a:stretch/>
        </p:blipFill>
        <p:spPr>
          <a:xfrm>
            <a:off x="-7162920" y="5638680"/>
            <a:ext cx="6934320" cy="5648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arrow.png"/>
          <p:cNvPicPr/>
          <p:nvPr/>
        </p:nvPicPr>
        <p:blipFill>
          <a:blip r:embed="rId6"/>
          <a:stretch/>
        </p:blipFill>
        <p:spPr>
          <a:xfrm>
            <a:off x="-4572000" y="5791320"/>
            <a:ext cx="6934320" cy="5648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arrow.png"/>
          <p:cNvPicPr/>
          <p:nvPr/>
        </p:nvPicPr>
        <p:blipFill>
          <a:blip r:embed="rId7"/>
          <a:stretch/>
        </p:blipFill>
        <p:spPr>
          <a:xfrm>
            <a:off x="-2895480" y="5867280"/>
            <a:ext cx="6933960" cy="5648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arrow.png"/>
          <p:cNvPicPr/>
          <p:nvPr/>
        </p:nvPicPr>
        <p:blipFill>
          <a:blip r:embed="rId8"/>
          <a:stretch/>
        </p:blipFill>
        <p:spPr>
          <a:xfrm>
            <a:off x="-8153280" y="5562720"/>
            <a:ext cx="6933960" cy="5648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arrow.png"/>
          <p:cNvPicPr/>
          <p:nvPr/>
        </p:nvPicPr>
        <p:blipFill>
          <a:blip r:embed="rId9"/>
          <a:stretch/>
        </p:blipFill>
        <p:spPr>
          <a:xfrm>
            <a:off x="-7696080" y="4419720"/>
            <a:ext cx="6933960" cy="5648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buglogowhite.png"/>
          <p:cNvPicPr/>
          <p:nvPr/>
        </p:nvPicPr>
        <p:blipFill>
          <a:blip r:embed="rId10"/>
          <a:stretch/>
        </p:blipFill>
        <p:spPr>
          <a:xfrm>
            <a:off x="6858000" y="5867280"/>
            <a:ext cx="1795320" cy="549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blu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arrow.png"/>
          <p:cNvPicPr/>
          <p:nvPr/>
        </p:nvPicPr>
        <p:blipFill>
          <a:blip r:embed="rId3"/>
          <a:stretch/>
        </p:blipFill>
        <p:spPr>
          <a:xfrm>
            <a:off x="-6477120" y="1209600"/>
            <a:ext cx="6934320" cy="5648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arrow.png"/>
          <p:cNvPicPr/>
          <p:nvPr/>
        </p:nvPicPr>
        <p:blipFill>
          <a:blip r:embed="rId4"/>
          <a:stretch/>
        </p:blipFill>
        <p:spPr>
          <a:xfrm>
            <a:off x="-6477120" y="4343400"/>
            <a:ext cx="6934320" cy="564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arrow.png"/>
          <p:cNvPicPr/>
          <p:nvPr/>
        </p:nvPicPr>
        <p:blipFill>
          <a:blip r:embed="rId5"/>
          <a:stretch/>
        </p:blipFill>
        <p:spPr>
          <a:xfrm>
            <a:off x="-7162920" y="5638680"/>
            <a:ext cx="6934320" cy="5648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arrow.png"/>
          <p:cNvPicPr/>
          <p:nvPr/>
        </p:nvPicPr>
        <p:blipFill>
          <a:blip r:embed="rId6"/>
          <a:stretch/>
        </p:blipFill>
        <p:spPr>
          <a:xfrm>
            <a:off x="-4572000" y="5791320"/>
            <a:ext cx="6934320" cy="5648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arrow.png"/>
          <p:cNvPicPr/>
          <p:nvPr/>
        </p:nvPicPr>
        <p:blipFill>
          <a:blip r:embed="rId7"/>
          <a:stretch/>
        </p:blipFill>
        <p:spPr>
          <a:xfrm>
            <a:off x="-2895480" y="5867280"/>
            <a:ext cx="6933960" cy="5648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arrow.png"/>
          <p:cNvPicPr/>
          <p:nvPr/>
        </p:nvPicPr>
        <p:blipFill>
          <a:blip r:embed="rId8"/>
          <a:stretch/>
        </p:blipFill>
        <p:spPr>
          <a:xfrm>
            <a:off x="-8153280" y="5562720"/>
            <a:ext cx="6933960" cy="5648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arrow.png"/>
          <p:cNvPicPr/>
          <p:nvPr/>
        </p:nvPicPr>
        <p:blipFill>
          <a:blip r:embed="rId9"/>
          <a:stretch/>
        </p:blipFill>
        <p:spPr>
          <a:xfrm>
            <a:off x="-7696080" y="4419720"/>
            <a:ext cx="6933960" cy="5648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buglogowhite.png"/>
          <p:cNvPicPr/>
          <p:nvPr/>
        </p:nvPicPr>
        <p:blipFill>
          <a:blip r:embed="rId10"/>
          <a:stretch/>
        </p:blipFill>
        <p:spPr>
          <a:xfrm>
            <a:off x="6858000" y="5867280"/>
            <a:ext cx="1795320" cy="5493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BUG_PPT_staticcov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buglogowhite.png"/>
          <p:cNvPicPr/>
          <p:nvPr/>
        </p:nvPicPr>
        <p:blipFill>
          <a:blip r:embed="rId3"/>
          <a:stretch/>
        </p:blipFill>
        <p:spPr>
          <a:xfrm>
            <a:off x="6858000" y="5867280"/>
            <a:ext cx="1795320" cy="5493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6" descr="BUG_PPT_backgrounds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BUGlogo.png"/>
          <p:cNvPicPr/>
          <p:nvPr/>
        </p:nvPicPr>
        <p:blipFill>
          <a:blip r:embed="rId3"/>
          <a:stretch/>
        </p:blipFill>
        <p:spPr>
          <a:xfrm>
            <a:off x="6858000" y="5867280"/>
            <a:ext cx="1795320" cy="5493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6" descr="BUG_PPT_background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BUGlogo.png"/>
          <p:cNvPicPr/>
          <p:nvPr/>
        </p:nvPicPr>
        <p:blipFill>
          <a:blip r:embed="rId3"/>
          <a:stretch/>
        </p:blipFill>
        <p:spPr>
          <a:xfrm>
            <a:off x="6858000" y="5867280"/>
            <a:ext cx="1795320" cy="5493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BUG_PPT_backgrounds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3" descr="BUGlogo.png"/>
          <p:cNvPicPr/>
          <p:nvPr/>
        </p:nvPicPr>
        <p:blipFill>
          <a:blip r:embed="rId3"/>
          <a:stretch/>
        </p:blipFill>
        <p:spPr>
          <a:xfrm>
            <a:off x="6858000" y="5867280"/>
            <a:ext cx="1795320" cy="5493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3" descr="BUGlogo.png"/>
          <p:cNvPicPr/>
          <p:nvPr/>
        </p:nvPicPr>
        <p:blipFill>
          <a:blip r:embed="rId2"/>
          <a:stretch/>
        </p:blipFill>
        <p:spPr>
          <a:xfrm>
            <a:off x="6858000" y="5867280"/>
            <a:ext cx="1795320" cy="5493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arrow.png"/>
          <p:cNvPicPr/>
          <p:nvPr/>
        </p:nvPicPr>
        <p:blipFill>
          <a:blip r:embed="rId3"/>
          <a:stretch/>
        </p:blipFill>
        <p:spPr>
          <a:xfrm rot="1500000">
            <a:off x="-807840" y="3409920"/>
            <a:ext cx="6934320" cy="56484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WOT Analysis – An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1430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12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09640" y="63792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b0f0"/>
                </a:solidFill>
                <a:latin typeface="Calibri"/>
              </a:rPr>
              <a:t>A threat can b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28720" y="2180880"/>
            <a:ext cx="3943440" cy="411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Calibri"/>
              <a:buChar char="-"/>
              <a:tabLst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Unfavourable regulation 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Calibri"/>
              <a:buChar char="-"/>
              <a:tabLst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A new entrant into the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Calibri"/>
              <a:buChar char="-"/>
              <a:tabLst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Problems with the econ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Calibri"/>
              <a:buChar char="-"/>
              <a:tabLst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Market shrink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Picture 3" descr="C:\Users\TimGrey.TSBCNET\AppData\Local\Microsoft\Windows\Temporary Internet Files\Content.IE5\MFJ6MG66\MP900401429[1].jpg"/>
          <p:cNvPicPr/>
          <p:nvPr/>
        </p:nvPicPr>
        <p:blipFill>
          <a:blip r:embed="rId1"/>
          <a:stretch/>
        </p:blipFill>
        <p:spPr>
          <a:xfrm>
            <a:off x="4602240" y="2173320"/>
            <a:ext cx="3902040" cy="312084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</p:spTree>
  </p:cSld>
  <p:transition spd="med" advTm="12000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09640" y="63792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b0f0"/>
                </a:solidFill>
                <a:latin typeface="Calibri"/>
              </a:rPr>
              <a:t>Strategies that can come from SWOT Analysis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28720" y="2180880"/>
            <a:ext cx="7353360" cy="411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f5f5f"/>
                </a:solidFill>
                <a:latin typeface="Calibri"/>
              </a:rPr>
              <a:t>S-O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f5f5f"/>
                </a:solidFill>
                <a:latin typeface="Calibri"/>
              </a:rPr>
              <a:t>W-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f5f5f"/>
                </a:solidFill>
                <a:latin typeface="Calibri"/>
              </a:rPr>
              <a:t>S-T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f5f5f"/>
                </a:solidFill>
                <a:latin typeface="Calibri"/>
              </a:rPr>
              <a:t>W-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2" descr="C:\Users\TimGrey.TSBCNET\AppData\Local\Microsoft\Windows\Temporary Internet Files\Content.IE5\4YA7NCI3\MP900341397[1].jpg"/>
          <p:cNvPicPr/>
          <p:nvPr/>
        </p:nvPicPr>
        <p:blipFill>
          <a:blip r:embed="rId1"/>
          <a:stretch/>
        </p:blipFill>
        <p:spPr>
          <a:xfrm>
            <a:off x="3629160" y="2290680"/>
            <a:ext cx="4373280" cy="311940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</p:spTree>
  </p:cSld>
  <p:transition spd="med" advTm="12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09640" y="63792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b0f0"/>
                </a:solidFill>
                <a:latin typeface="Calibri"/>
              </a:rPr>
              <a:t>Matching strengths to opportunitie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828360" y="2180880"/>
            <a:ext cx="3552840" cy="411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Otherwise known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S-O or Maxi-Maxi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Using a strength to maximise an opport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2" descr="C:\Users\TimGrey.TSBCNET\AppData\Local\Microsoft\Windows\Temporary Internet Files\Content.IE5\Z70P65UB\MP900448291[1].jpg"/>
          <p:cNvPicPr/>
          <p:nvPr/>
        </p:nvPicPr>
        <p:blipFill>
          <a:blip r:embed="rId1"/>
          <a:stretch/>
        </p:blipFill>
        <p:spPr>
          <a:xfrm>
            <a:off x="4772160" y="2155680"/>
            <a:ext cx="3808440" cy="256860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</p:spTree>
  </p:cSld>
  <p:transition spd="med" advTm="12000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09640" y="63792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b0f0"/>
                </a:solidFill>
                <a:latin typeface="Calibri"/>
              </a:rPr>
              <a:t>Matching weaknesses to opportunitie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828360" y="2180880"/>
            <a:ext cx="3552840" cy="411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Otherwise known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W-O or Mini-Maxi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Improving capability to maximise an opport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Picture 3" descr="C:\Users\TimGrey.TSBCNET\AppData\Local\Microsoft\Windows\Temporary Internet Files\Content.IE5\T2PHF09T\MP900424359[1].jpg"/>
          <p:cNvPicPr/>
          <p:nvPr/>
        </p:nvPicPr>
        <p:blipFill>
          <a:blip r:embed="rId1"/>
          <a:stretch/>
        </p:blipFill>
        <p:spPr>
          <a:xfrm>
            <a:off x="4734000" y="2235240"/>
            <a:ext cx="3660840" cy="245124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</p:spTree>
  </p:cSld>
  <p:transition spd="med" advTm="12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09640" y="63792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b0f0"/>
                </a:solidFill>
                <a:latin typeface="Calibri"/>
              </a:rPr>
              <a:t>Matching strengths to threa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828360" y="2180880"/>
            <a:ext cx="3552840" cy="411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Otherwise known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S-T or Maxi-Mini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Minimising a threat with a str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2" descr="C:\Users\TimGrey.TSBCNET\AppData\Local\Microsoft\Windows\Temporary Internet Files\Content.IE5\87NQIZDF\MP900427957[1].jpg"/>
          <p:cNvPicPr/>
          <p:nvPr/>
        </p:nvPicPr>
        <p:blipFill>
          <a:blip r:embed="rId1"/>
          <a:stretch/>
        </p:blipFill>
        <p:spPr>
          <a:xfrm>
            <a:off x="5353200" y="2190600"/>
            <a:ext cx="2125440" cy="323856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</p:spTree>
  </p:cSld>
  <p:transition spd="med" advTm="12000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09640" y="63792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b0f0"/>
                </a:solidFill>
                <a:latin typeface="Calibri"/>
              </a:rPr>
              <a:t>Matching weaknesses to threa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828360" y="2180880"/>
            <a:ext cx="3552840" cy="411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Otherwise known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W-T or Mini-Mini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Minimising weaknesses and threats at same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(often last choi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6" descr="C:\Users\TimGrey.TSBCNET\AppData\Local\Microsoft\Windows\Temporary Internet Files\Content.IE5\Z70P65UB\MP900385981[1].jpg"/>
          <p:cNvPicPr/>
          <p:nvPr/>
        </p:nvPicPr>
        <p:blipFill>
          <a:blip r:embed="rId1"/>
          <a:stretch/>
        </p:blipFill>
        <p:spPr>
          <a:xfrm>
            <a:off x="5229360" y="2181240"/>
            <a:ext cx="2128680" cy="298116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</p:spTree>
  </p:cSld>
  <p:transition spd="med" advTm="12000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838080" y="2163240"/>
            <a:ext cx="38671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Analysing a company’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STRENG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WEAKN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OPPORTUN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THRE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b0f0"/>
                </a:solidFill>
                <a:latin typeface="Calibri"/>
              </a:rPr>
              <a:t>SWOT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5" descr="C:\Users\TimGrey.TSBCNET\AppData\Local\Microsoft\Windows\Temporary Internet Files\Content.IE5\4YA7NCI3\MP900341388[1].jpg"/>
          <p:cNvPicPr/>
          <p:nvPr/>
        </p:nvPicPr>
        <p:blipFill>
          <a:blip r:embed="rId1"/>
          <a:stretch/>
        </p:blipFill>
        <p:spPr>
          <a:xfrm>
            <a:off x="5305320" y="2000160"/>
            <a:ext cx="2222640" cy="311472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</p:spTree>
  </p:cSld>
  <p:transition spd="med" advTm="12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542880" y="2181240"/>
            <a:ext cx="3905280" cy="347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f5f5f"/>
                </a:solidFill>
                <a:latin typeface="Calibri"/>
              </a:rPr>
              <a:t>Developed at Stanf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f5f5f"/>
                </a:solidFill>
                <a:latin typeface="Calibri"/>
              </a:rPr>
              <a:t>Funded by Fortune 500 compan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f5f5f"/>
                </a:solidFill>
                <a:latin typeface="Calibri"/>
              </a:rPr>
              <a:t>Took 9 years to devel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f5f5f"/>
                </a:solidFill>
                <a:latin typeface="Calibri"/>
              </a:rPr>
              <a:t>Involved 5000 inter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90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b0f0"/>
                </a:solidFill>
                <a:latin typeface="Calibri"/>
              </a:rPr>
              <a:t>History of SWOT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5" descr="C:\Users\TimGrey.TSBCNET\AppData\Local\Microsoft\Windows\Temporary Internet Files\Content.IE5\EP33QB70\MP900409270[1].jpg"/>
          <p:cNvPicPr/>
          <p:nvPr/>
        </p:nvPicPr>
        <p:blipFill>
          <a:blip r:embed="rId1"/>
          <a:stretch/>
        </p:blipFill>
        <p:spPr>
          <a:xfrm>
            <a:off x="5483160" y="1924200"/>
            <a:ext cx="2070000" cy="31143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2120" y="9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</a:rPr>
              <a:t>SWOT Analysis is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838080" y="2163600"/>
            <a:ext cx="4114800" cy="27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f5f5f"/>
                </a:solidFill>
                <a:latin typeface="Calibri"/>
              </a:rPr>
              <a:t>… </a:t>
            </a:r>
            <a:r>
              <a:rPr b="0" lang="en-NZ" sz="2400" spc="-1" strike="noStrike">
                <a:solidFill>
                  <a:srgbClr val="5f5f5f"/>
                </a:solidFill>
                <a:latin typeface="Calibri"/>
              </a:rPr>
              <a:t>A strategic planning tool that separates influences on a business’s future success into internal and external fa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Picture 6" descr="C:\Users\TimGrey.TSBCNET\AppData\Local\Microsoft\Windows\Temporary Internet Files\Content.IE5\IAISJBPM\MP900341344[1].jpg"/>
          <p:cNvPicPr/>
          <p:nvPr/>
        </p:nvPicPr>
        <p:blipFill>
          <a:blip r:embed="rId1"/>
          <a:stretch/>
        </p:blipFill>
        <p:spPr>
          <a:xfrm>
            <a:off x="5381640" y="1924200"/>
            <a:ext cx="2405160" cy="337176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</p:spTree>
  </p:cSld>
  <p:transition spd="med" advTm="12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837720" y="2163240"/>
            <a:ext cx="3915000" cy="45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f5f5f"/>
                </a:solidFill>
                <a:latin typeface="Calibri"/>
              </a:rPr>
              <a:t>Define realistic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f5f5f"/>
                </a:solidFill>
                <a:latin typeface="Calibri"/>
              </a:rPr>
              <a:t>Improve cap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f5f5f"/>
                </a:solidFill>
                <a:latin typeface="Calibri"/>
              </a:rPr>
              <a:t>Overcome weaknesses with streng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f5f5f"/>
                </a:solidFill>
                <a:latin typeface="Calibri"/>
              </a:rPr>
              <a:t>Identify threats than can be turned into opportun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b0f0"/>
                </a:solidFill>
                <a:latin typeface="Calibri"/>
              </a:rPr>
              <a:t>SWOT Analysis allows businesses to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Picture 5" descr="C:\Users\TimGrey.TSBCNET\AppData\Local\Microsoft\Windows\Temporary Internet Files\Content.IE5\Z70P65UB\MP900439558[1].jpg"/>
          <p:cNvPicPr/>
          <p:nvPr/>
        </p:nvPicPr>
        <p:blipFill>
          <a:blip r:embed="rId1"/>
          <a:stretch/>
        </p:blipFill>
        <p:spPr>
          <a:xfrm>
            <a:off x="4686480" y="2244600"/>
            <a:ext cx="3782880" cy="29656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</a:rPr>
              <a:t>A SWOT Matrix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837720" y="2163240"/>
            <a:ext cx="5010120" cy="45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…</a:t>
            </a: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separates and compares internal and external influenc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INTERNAL: strengths, weakn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External: opportunities, thre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Picture 5" descr="C:\Users\TimGrey.TSBCNET\AppData\Local\Microsoft\Windows\Temporary Internet Files\Content.IE5\6YNWVQ6G\MP900439375[1].jpg"/>
          <p:cNvPicPr/>
          <p:nvPr/>
        </p:nvPicPr>
        <p:blipFill>
          <a:blip r:embed="rId1"/>
          <a:stretch/>
        </p:blipFill>
        <p:spPr>
          <a:xfrm>
            <a:off x="5495760" y="3025800"/>
            <a:ext cx="3286440" cy="217476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</p:spTree>
  </p:cSld>
  <p:transition spd="med" advTm="12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b0f0"/>
                </a:solidFill>
                <a:latin typeface="Calibri"/>
              </a:rPr>
              <a:t>A strength can be a competitive advantage lik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37720" y="2523960"/>
            <a:ext cx="2800440" cy="26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f5f5f"/>
                </a:solidFill>
                <a:latin typeface="Calibri"/>
              </a:rPr>
              <a:t>Superior product 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f5f5f"/>
                </a:solidFill>
                <a:latin typeface="Calibri"/>
              </a:rPr>
              <a:t>Lowest 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f5f5f"/>
                </a:solidFill>
                <a:latin typeface="Calibri"/>
              </a:rPr>
              <a:t>Best expert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f5f5f"/>
                </a:solidFill>
                <a:latin typeface="Calibri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7" descr="C:\Users\TimGrey.TSBCNET\AppData\Local\Microsoft\Windows\Temporary Internet Files\Content.IE5\IDP13LRD\MP900442215[1].jpg"/>
          <p:cNvPicPr/>
          <p:nvPr/>
        </p:nvPicPr>
        <p:blipFill>
          <a:blip r:embed="rId1"/>
          <a:stretch/>
        </p:blipFill>
        <p:spPr>
          <a:xfrm>
            <a:off x="5334120" y="2038320"/>
            <a:ext cx="2133360" cy="320040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</p:spTree>
  </p:cSld>
  <p:transition spd="med" advTm="12000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</a:rPr>
              <a:t>A weakness can be a disadvantage such as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838080" y="2571480"/>
            <a:ext cx="3943440" cy="411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Calibri"/>
              <a:buChar char="-"/>
              <a:tabLst>
                <a:tab algn="l" pos="4064040"/>
                <a:tab algn="r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A tired b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Calibri"/>
              <a:buChar char="-"/>
              <a:tabLst>
                <a:tab algn="l" pos="4064040"/>
                <a:tab algn="r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Inferior lo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Calibri"/>
              <a:buChar char="-"/>
              <a:tabLst>
                <a:tab algn="l" pos="4064040"/>
                <a:tab algn="r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High overhe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Calibri"/>
              <a:buChar char="-"/>
              <a:tabLst>
                <a:tab algn="l" pos="4064040"/>
                <a:tab algn="r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A lack of R&amp;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5" descr="C:\Users\TimGrey.TSBCNET\AppData\Local\Microsoft\Windows\Temporary Internet Files\Content.IE5\IAISJBPM\MP900442477[1].jpg"/>
          <p:cNvPicPr/>
          <p:nvPr/>
        </p:nvPicPr>
        <p:blipFill>
          <a:blip r:embed="rId1"/>
          <a:stretch/>
        </p:blipFill>
        <p:spPr>
          <a:xfrm>
            <a:off x="5295960" y="2209680"/>
            <a:ext cx="2012760" cy="301968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</p:spTree>
  </p:cSld>
  <p:transition spd="med" advTm="12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09640" y="63792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b0f0"/>
                </a:solidFill>
                <a:latin typeface="Calibri"/>
              </a:rPr>
              <a:t>An opportunity can b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28720" y="2180880"/>
            <a:ext cx="3943440" cy="411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Calibri"/>
              <a:buChar char="-"/>
              <a:tabLst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A regulatory or tax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Calibri"/>
              <a:buChar char="-"/>
              <a:tabLst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A high-profile event (marketing opportun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Calibri"/>
              <a:buChar char="-"/>
              <a:tabLst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An untapped mark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Calibri"/>
              <a:buChar char="-"/>
              <a:tabLst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A gap left by a failed competi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Calibri"/>
              <a:buChar char="-"/>
              <a:tabLst>
                <a:tab algn="l" pos="2478240"/>
                <a:tab algn="r" pos="3906720"/>
                <a:tab algn="l" pos="428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Picture 2" descr="C:\Users\TimGrey.TSBCNET\AppData\Local\Microsoft\Windows\Temporary Internet Files\Content.IE5\FLO49FXW\MP900227556[1].jpg"/>
          <p:cNvPicPr/>
          <p:nvPr/>
        </p:nvPicPr>
        <p:blipFill>
          <a:blip r:embed="rId1"/>
          <a:stretch/>
        </p:blipFill>
        <p:spPr>
          <a:xfrm>
            <a:off x="5376960" y="2019240"/>
            <a:ext cx="2805120" cy="341964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</p:spTree>
  </p:cSld>
  <p:transition spd="med" advTm="12000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5T23:49:56Z</dcterms:created>
  <dc:creator/>
  <dc:description/>
  <dc:language>en-US</dc:language>
  <cp:lastModifiedBy>Bright</cp:lastModifiedBy>
  <cp:lastPrinted>1999-05-05T08:54:33Z</cp:lastPrinted>
  <dcterms:modified xsi:type="dcterms:W3CDTF">2013-08-23T08:33:30Z</dcterms:modified>
  <cp:revision>544</cp:revision>
  <dc:subject/>
  <dc:title>SWOT Analysis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ssigned to0">
    <vt:lpwstr>8</vt:lpwstr>
  </property>
  <property fmtid="{D5CDD505-2E9C-101B-9397-08002B2CF9AE}" pid="3" name="AssignedTo">
    <vt:lpwstr>32</vt:lpwstr>
  </property>
  <property fmtid="{D5CDD505-2E9C-101B-9397-08002B2CF9AE}" pid="4" name="Author0">
    <vt:lpwstr>43</vt:lpwstr>
  </property>
  <property fmtid="{D5CDD505-2E9C-101B-9397-08002B2CF9AE}" pid="5" name="Availability">
    <vt:lpwstr>1</vt:lpwstr>
  </property>
  <property fmtid="{D5CDD505-2E9C-101B-9397-08002B2CF9AE}" pid="6" name="Client">
    <vt:lpwstr>21</vt:lpwstr>
  </property>
  <property fmtid="{D5CDD505-2E9C-101B-9397-08002B2CF9AE}" pid="7" name="ContentType">
    <vt:lpwstr>Document</vt:lpwstr>
  </property>
  <property fmtid="{D5CDD505-2E9C-101B-9397-08002B2CF9AE}" pid="8" name="Copyright">
    <vt:lpwstr>Business.govt</vt:lpwstr>
  </property>
  <property fmtid="{D5CDD505-2E9C-101B-9397-08002B2CF9AE}" pid="9" name="Current process0">
    <vt:lpwstr>8</vt:lpwstr>
  </property>
  <property fmtid="{D5CDD505-2E9C-101B-9397-08002B2CF9AE}" pid="10" name="DLCPolicyLabelClientValue">
    <vt:lpwstr/>
  </property>
  <property fmtid="{D5CDD505-2E9C-101B-9397-08002B2CF9AE}" pid="11" name="DLCPolicyLabelLock">
    <vt:lpwstr/>
  </property>
  <property fmtid="{D5CDD505-2E9C-101B-9397-08002B2CF9AE}" pid="12" name="Delivered">
    <vt:lpwstr>0</vt:lpwstr>
  </property>
  <property fmtid="{D5CDD505-2E9C-101B-9397-08002B2CF9AE}" pid="13" name="Delivery Month">
    <vt:lpwstr>JUL</vt:lpwstr>
  </property>
  <property fmtid="{D5CDD505-2E9C-101B-9397-08002B2CF9AE}" pid="14" name="Delivery year">
    <vt:lpwstr>2011.00000000000</vt:lpwstr>
  </property>
  <property fmtid="{D5CDD505-2E9C-101B-9397-08002B2CF9AE}" pid="15" name="Description0">
    <vt:lpwstr>Powerpoint presentation for BG edu content on SWOT Analysis</vt:lpwstr>
  </property>
  <property fmtid="{D5CDD505-2E9C-101B-9397-08002B2CF9AE}" pid="16" name="DocID">
    <vt:lpwstr/>
  </property>
  <property fmtid="{D5CDD505-2E9C-101B-9397-08002B2CF9AE}" pid="17" name="Loc">
    <vt:lpwstr>NZ</vt:lpwstr>
  </property>
  <property fmtid="{D5CDD505-2E9C-101B-9397-08002B2CF9AE}" pid="18" name="Next review">
    <vt:lpwstr/>
  </property>
  <property fmtid="{D5CDD505-2E9C-101B-9397-08002B2CF9AE}" pid="19" name="Order">
    <vt:lpwstr>109100.000000000</vt:lpwstr>
  </property>
  <property fmtid="{D5CDD505-2E9C-101B-9397-08002B2CF9AE}" pid="20" name="Priority">
    <vt:lpwstr>Soon</vt:lpwstr>
  </property>
  <property fmtid="{D5CDD505-2E9C-101B-9397-08002B2CF9AE}" pid="21" name="Process deadline">
    <vt:lpwstr>2011-07-22T00:00:00Z</vt:lpwstr>
  </property>
  <property fmtid="{D5CDD505-2E9C-101B-9397-08002B2CF9AE}" pid="22" name="Project">
    <vt:lpwstr>12</vt:lpwstr>
  </property>
  <property fmtid="{D5CDD505-2E9C-101B-9397-08002B2CF9AE}" pid="23" name="Publish history">
    <vt:lpwstr/>
  </property>
  <property fmtid="{D5CDD505-2E9C-101B-9397-08002B2CF9AE}" pid="24" name="REVIEWS-Last review">
    <vt:lpwstr>2011-07-22T00:00:00Z</vt:lpwstr>
  </property>
  <property fmtid="{D5CDD505-2E9C-101B-9397-08002B2CF9AE}" pid="25" name="REVIEWS-Last reviewed by">
    <vt:lpwstr/>
  </property>
  <property fmtid="{D5CDD505-2E9C-101B-9397-08002B2CF9AE}" pid="26" name="Status">
    <vt:lpwstr>2</vt:lpwstr>
  </property>
  <property fmtid="{D5CDD505-2E9C-101B-9397-08002B2CF9AE}" pid="27" name="TSBC content type">
    <vt:lpwstr>7</vt:lpwstr>
  </property>
  <property fmtid="{D5CDD505-2E9C-101B-9397-08002B2CF9AE}" pid="28" name="TSBC master">
    <vt:lpwstr>0</vt:lpwstr>
  </property>
  <property fmtid="{D5CDD505-2E9C-101B-9397-08002B2CF9AE}" pid="29" name="Topic">
    <vt:lpwstr>0</vt:lpwstr>
  </property>
  <property fmtid="{D5CDD505-2E9C-101B-9397-08002B2CF9AE}" pid="30" name="Topic - minor">
    <vt:lpwstr/>
  </property>
  <property fmtid="{D5CDD505-2E9C-101B-9397-08002B2CF9AE}" pid="31" name="Topic-Major">
    <vt:lpwstr/>
  </property>
  <property fmtid="{D5CDD505-2E9C-101B-9397-08002B2CF9AE}" pid="32" name="_Status">
    <vt:lpwstr>Published</vt:lpwstr>
  </property>
  <property fmtid="{D5CDD505-2E9C-101B-9397-08002B2CF9AE}" pid="33" name="display_urn:schemas-microsoft-com:office:office#AssignedTo">
    <vt:lpwstr>Sam Lockton</vt:lpwstr>
  </property>
  <property fmtid="{D5CDD505-2E9C-101B-9397-08002B2CF9AE}" pid="34" name="display_urn:schemas-microsoft-com:office:office#Assigned_x0020_to0">
    <vt:lpwstr>Bruce Young</vt:lpwstr>
  </property>
  <property fmtid="{D5CDD505-2E9C-101B-9397-08002B2CF9AE}" pid="35" name="display_urn:schemas-microsoft-com:office:office#Author0">
    <vt:lpwstr>Tim Grey</vt:lpwstr>
  </property>
</Properties>
</file>